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25.gif" ContentType="image/gif"/>
  <Override PartName="/ppt/media/image9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4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Click to move the slide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CB322-2AEB-415A-AA29-8D794332B36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lky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Galactic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Milky Wa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ur Galactic Hom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ma-ray emission from pulsars and black holes – copyright NAS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amma-ray emission from pulsars and black holes – copyright NASA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are W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ren’t at the center of the Milky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is the center the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bular Clusters point the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10 – copyright Credner and Koh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here are We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e aren’t at the center of the Milky Way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here is the center then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lobular Clusters point the way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10 – copyright Credner and Kohl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ou Are 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You Are Her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-Infrared stellar emission – copyright E. L. Wright and CO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Near-Infrared stellar emission – copyright E. L. Wright and COB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actic Dist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know the distance to stars and clusters in our galax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gonometric parallax good out to 100 p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believe galaxy is ~30 kpc w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kn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alactic Distanc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How do we know the distance to stars and clusters in our galaxy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rigonometric parallax good out to 100 pc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e believe galaxy is ~30 kpc wid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How do we know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troscopic Paralla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know how luminous a star REALLY is and how bright it looks from Earth, you can determine how far away it must be to look that fai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ny star in the sky, we KNOW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arent Magnitude (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tral Type  (O, B, A, F, G, K, 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minosity Class (Main Sequence, Giant, etc…). These are denoted by a roman numeral (V, III, I,…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bine spectral type and luminosity class to get absolute magnitude (M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Lecture 7B: m – M give you dista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pectroscopic Parallax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f you know how luminous a star REALLY is and how bright it looks from Earth, you can determine how far away it must be to look that faint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or any star in the sky, we KNOW: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pparent Magnitude (m)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pectral Type  (O, B, A, F, G, K, M)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Luminosity Class (Main Sequence, Giant, etc…). These are denoted by a roman numeral (V, III, I,…)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mbine spectral type and luminosity class to get absolute magnitude (M)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rom Lecture 7B: m – M give you distanc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neb is A2Ia st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 = 1.2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2  Blue st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a  Supergi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 = -8.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istance = 1000 p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Deneb is A2Ia star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m = 1.25 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A2  Blue star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Ia  Supergiant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M = -8.8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Distance = 1000 pc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ndard Cand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ndard Candle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know how bright something should be, and we know how bright it looks  D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ble st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R Lyra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pheid variab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tandard Candl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tandard Candles”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f we know how bright something should be, and we know how bright it looks  Distanc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Variable star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RR Lyra sta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epheid variabl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ble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RR Lyrae star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verage luminosity is a standard cand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ways ~ 100 x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Cepheid variab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lsation period is proportional to average lumino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e the period  find the lumino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od to 15 Mpc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Variable Sta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or RR Lyrae stars: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verage luminosity is a standard candl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lways ~ 100 x Su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or Cepheid variables: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ulsation period is proportional to average luminosit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bserve the period  find the luminosit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ood to 15 Mpc!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tation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jects in the disk, rotate in the dis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bul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en clu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ng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jects in the halo, swarm in a ha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d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bular clu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Rotation …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bjects in the disk, rotate in the disk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Nebula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pen cluste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Young sta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bjects in the halo, swarm in a halo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ld sta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lobular cluste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cture the formation of the Su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herical clou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denses to di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 in a pla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ort cloud 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haps the same with the galax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… </a:t>
            </a: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nd Formatio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icture the formation of the Sun: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pherical cloud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ndenses to disk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lanets in a plan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ort cloud spher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erhaps the same with the galaxy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ssing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variable stars we know distan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Doppler shift we know rotation veloc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Kepler’s Third Law (again) to get mass of the Milky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1011 x M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issing Mas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rom variable stars we know distance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rom Doppler shift we know rotation velocity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Use Kepler’s Third Law (again) to get mass of the Milky Way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 = 1011 x Msu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rk Ma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causes the mass to keep on increas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’t see anything there. Thus  “dark” mat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own dwar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dwar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ange mat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gravitational lensing (last lecture) to look for these “dark” objec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Dark Matter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hat causes the mass to keep on increasing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Don’t see anything there. Thus  “dark” matter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Brown dwarf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hite dwarf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trange matter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Use gravitational lensing (last lecture) to look for these “dark” object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eart of the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of all the dust in the Galaxy, we can’t see its center in visible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use IR and radio to pierce the du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Heart of the Galax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Because of all the dust in the Galaxy, we can’t see its center in visible light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an use IR and radio to pierce the dust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200 p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5 p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Sagittarius A* - Sgr A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Palatino"/>
              </a:rPr>
              <a:t>200 pc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Palatino"/>
              </a:rPr>
              <a:t>5 pc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Palatino"/>
              </a:rPr>
              <a:t>Sagittarius A* - Sgr A*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llar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 images of stars in the Galactic Center over 8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“+” is the radio source Sgr A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lusion: Must be over one million solar masses within less than 1/5 of a light yea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ermassive Black Hol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nt Horizon &lt; 0.05 AU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ably in the centers of all spiral galax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Eckart &amp; Genz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tellar Motio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nfrared images of stars in the Galactic Center over 8 year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“+” is the radio source Sgr A*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nclusion: Must be over one million solar masses within less than 1/5 of a light year!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upermassive Black Hole!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vent Horizon &lt; 0.05 AU!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robably in the centers of all spiral galaxie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pyright Eckart &amp; Genzel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our Galax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s size and shap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stars and things move through i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and Dark Mat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alactic Cen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oal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tructure of our Galaxy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ts size and shap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How do stars and things move through it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ass and Dark Matter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Galactic Center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lky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eous Nebul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en Clu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bular Clu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ls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ack H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they all fit together to make our galax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Milky Wa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ta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Dust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aseous Nebula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pen Cluste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lobular Cluste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ulsa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Black Hol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How do they all fit together to make our galaxy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al emission from stars and nebul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ptical emission from stars and nebula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-Infrared stellar emission – copyright E. L. Wright and CO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Near-Infrared stellar emission – copyright E. L. Wright and COB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-Infrared dust emission – copyright E. L. Wright and CO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ar-Infrared dust emission – copyright E. L. Wright and COB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 emission from neutral hydrogen – copyright J. Dick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Radio emission from neutral hydrogen – copyright J. Dicke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-ray emission from hot gas – copyright S. Digel and ROS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X-ray emission from hot gas – copyright S. Digel and ROSAT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8756-0D65-4BDB-AD4C-3AFDD4AFF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6AEF-309B-4EFB-99A9-C9A61FF07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C7C3-AD5C-438C-956F-322125F84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B264-E033-444C-B631-475CA083A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5A9AD-8013-4F64-9FB3-540E9B83A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C16A4-E97B-423E-88D4-2FB81FCE4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E843C-DA6C-433C-918A-85E11C132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27C3C-E3AA-4C4C-8E22-D4F112E97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66EF1-EB24-4D69-8B35-014E576BF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0723F-69FC-4E8B-91A0-E487A9403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0CBFC-1D66-4BBE-B248-90BC68D2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06FF-2372-4C49-98EC-F7CBAE047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A79F5-F3F6-41F7-9B53-0A5E16E4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946A3-9813-48F6-8012-B0E3DF22F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36821-0C0A-469E-9047-F01EBCDC1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63713-D241-427C-9EA9-909BC7D06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5EA9F-70D5-457C-9BF1-24FC02428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D8EC-1E9A-40EB-9408-09937B57F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2586-A5A6-4BA4-83F0-9E9F9E5B6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6C03-22D3-4DDC-B3F0-B9F2E72EB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D543-8B12-4AE4-8B96-3DFF620BD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9E17-6FBB-462C-BC8C-BF3B4C090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C706-79F8-47B2-A5EB-B2F20B9F3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723F-BB65-4EEE-8211-56EBC36AC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C:\Documents and Settings\Tyler_Nordgren\My Documents\My Pictures\astro images\images\MandM_Magrath.jpg"/>
          <p:cNvPicPr/>
          <p:nvPr/>
        </p:nvPicPr>
        <p:blipFill>
          <a:blip r:embed="rId2"/>
          <a:stretch/>
        </p:blipFill>
        <p:spPr>
          <a:xfrm>
            <a:off x="7696080" y="5910120"/>
            <a:ext cx="1447920" cy="94788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Click to edit the title text format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lick to edit the outline text format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2" marL="1143000" indent="-2286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ird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3" marL="1600200" indent="-228600">
              <a:spcBef>
                <a:spcPts val="700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our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4" marL="2057400" indent="-228600">
              <a:spcBef>
                <a:spcPts val="700"/>
              </a:spcBef>
              <a:buClr>
                <a:srgbClr val="ccccff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if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ix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ven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8CC7C-C3D0-4793-BAF3-8022EFC2D7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Text Box 10"/>
          <p:cNvSpPr/>
          <p:nvPr/>
        </p:nvSpPr>
        <p:spPr>
          <a:xfrm>
            <a:off x="7911720" y="5958000"/>
            <a:ext cx="921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Palatino"/>
              </a:rPr>
              <a:t>9B</a:t>
            </a:r>
            <a:endParaRPr b="0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8"/>
          <p:cNvSpPr/>
          <p:nvPr/>
        </p:nvSpPr>
        <p:spPr>
          <a:xfrm>
            <a:off x="8077320" y="601992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Palatino"/>
              </a:rPr>
              <a:t>9B</a:t>
            </a:r>
            <a:endParaRPr b="0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44" name="Picture 17" descr="C:\Documents and Settings\Tyler_Nordgren\My Documents\My Pictures\astro images\images\MandM_Magrath.jpg"/>
          <p:cNvPicPr/>
          <p:nvPr/>
        </p:nvPicPr>
        <p:blipFill>
          <a:blip r:embed="rId2"/>
          <a:stretch/>
        </p:blipFill>
        <p:spPr>
          <a:xfrm>
            <a:off x="914400" y="685800"/>
            <a:ext cx="7696080" cy="503712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Click to edit the title text format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lick to edit the outline text format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2" marL="1143000" indent="-2286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ird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3" marL="1600200" indent="-228600">
              <a:spcBef>
                <a:spcPts val="700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our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4" marL="2057400" indent="-228600">
              <a:spcBef>
                <a:spcPts val="700"/>
              </a:spcBef>
              <a:buClr>
                <a:srgbClr val="ccccff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if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ix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ven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47A44-ADE4-4DEB-A1A9-DEB32EC068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0020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The Milky Way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980720" y="5028840"/>
            <a:ext cx="57913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latino"/>
              </a:rPr>
              <a:t>Our Galactic Home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9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C:\Documents and Settings\Tyler_Nordgren\My Documents\My Pictures\astro images\images\allsky1_egret.gif"/>
          <p:cNvPicPr/>
          <p:nvPr/>
        </p:nvPicPr>
        <p:blipFill>
          <a:blip r:embed="rId1"/>
          <a:srcRect l="1941" t="0" r="1941" b="0"/>
          <a:stretch/>
        </p:blipFill>
        <p:spPr>
          <a:xfrm>
            <a:off x="152280" y="990720"/>
            <a:ext cx="8839440" cy="464508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22" name="Text Box 3"/>
          <p:cNvSpPr/>
          <p:nvPr/>
        </p:nvSpPr>
        <p:spPr>
          <a:xfrm>
            <a:off x="-272520" y="5732640"/>
            <a:ext cx="766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Gamma-ray emission from pulsars and black holes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NASA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Where are We?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e aren’t at the center of the Milky Way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here is the center then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Globular Clusters point the way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26" name="Picture 4" descr="D:\CHAISSON\BG314\IMAGES\AABJRIG0.jpg"/>
          <p:cNvPicPr/>
          <p:nvPr/>
        </p:nvPicPr>
        <p:blipFill>
          <a:blip r:embed="rId1"/>
          <a:srcRect l="1838" t="3656" r="4586" b="3051"/>
          <a:stretch/>
        </p:blipFill>
        <p:spPr>
          <a:xfrm>
            <a:off x="4952880" y="1523880"/>
            <a:ext cx="3886200" cy="38862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pic>
        <p:nvPicPr>
          <p:cNvPr id="127" name="Picture 5" descr="C:\Documents and Settings\Tyler_Nordgren\My Documents\My Pictures\astro images\images\m10_crednerkohle.jpg"/>
          <p:cNvPicPr/>
          <p:nvPr/>
        </p:nvPicPr>
        <p:blipFill>
          <a:blip r:embed="rId2"/>
          <a:stretch/>
        </p:blipFill>
        <p:spPr>
          <a:xfrm>
            <a:off x="685800" y="4038480"/>
            <a:ext cx="3200400" cy="248472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sp>
        <p:nvSpPr>
          <p:cNvPr id="128" name="Text Box 6"/>
          <p:cNvSpPr/>
          <p:nvPr/>
        </p:nvSpPr>
        <p:spPr>
          <a:xfrm>
            <a:off x="3777840" y="6172200"/>
            <a:ext cx="299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M10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Credner and Kohl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9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3" descr="D:\CHAISSON\BG314\IMAGES\bg14fg13.jpg"/>
          <p:cNvPicPr/>
          <p:nvPr/>
        </p:nvPicPr>
        <p:blipFill>
          <a:blip r:embed="rId1"/>
          <a:srcRect l="6608" t="16670" r="7527" b="23337"/>
          <a:stretch/>
        </p:blipFill>
        <p:spPr>
          <a:xfrm>
            <a:off x="1676520" y="228600"/>
            <a:ext cx="5638680" cy="5207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31" name="Picture 4" descr="D:\CHAISSON\BG314\IMAGES\AAAKLAV0.jpg"/>
          <p:cNvPicPr/>
          <p:nvPr/>
        </p:nvPicPr>
        <p:blipFill>
          <a:blip r:embed="rId2"/>
          <a:stretch/>
        </p:blipFill>
        <p:spPr>
          <a:xfrm>
            <a:off x="1981080" y="4933800"/>
            <a:ext cx="4800600" cy="1924200"/>
          </a:xfrm>
          <a:prstGeom prst="rect">
            <a:avLst/>
          </a:prstGeom>
          <a:ln w="0">
            <a:noFill/>
          </a:ln>
        </p:spPr>
      </p:pic>
      <p:sp>
        <p:nvSpPr>
          <p:cNvPr id="132" name="Oval 5"/>
          <p:cNvSpPr/>
          <p:nvPr/>
        </p:nvSpPr>
        <p:spPr>
          <a:xfrm>
            <a:off x="5562720" y="274320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3" name="Line 6"/>
          <p:cNvSpPr/>
          <p:nvPr/>
        </p:nvSpPr>
        <p:spPr>
          <a:xfrm flipV="1">
            <a:off x="5715000" y="1905120"/>
            <a:ext cx="457200" cy="761760"/>
          </a:xfrm>
          <a:prstGeom prst="line">
            <a:avLst/>
          </a:prstGeom>
          <a:ln w="9360">
            <a:solidFill>
              <a:srgbClr val="00cc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5607720" y="146520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Palatino"/>
              </a:rPr>
              <a:t>You Are Her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5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3" descr="D:\CHAISSON\BG314\IMAGES\AAAKLBH0.jpg"/>
          <p:cNvPicPr/>
          <p:nvPr/>
        </p:nvPicPr>
        <p:blipFill>
          <a:blip r:embed="rId1"/>
          <a:srcRect l="1062" t="2815" r="3193" b="5524"/>
          <a:stretch/>
        </p:blipFill>
        <p:spPr>
          <a:xfrm>
            <a:off x="609480" y="533520"/>
            <a:ext cx="8001000" cy="577836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3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C:\Documents and Settings\Tyler_Nordgren\My Documents\My Pictures\astro images\images\nir_cobe.jpg"/>
          <p:cNvPicPr/>
          <p:nvPr/>
        </p:nvPicPr>
        <p:blipFill>
          <a:blip r:embed="rId1"/>
          <a:stretch/>
        </p:blipFill>
        <p:spPr>
          <a:xfrm>
            <a:off x="76320" y="990720"/>
            <a:ext cx="8915400" cy="461484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39" name="Text Box 4"/>
          <p:cNvSpPr/>
          <p:nvPr/>
        </p:nvSpPr>
        <p:spPr>
          <a:xfrm>
            <a:off x="-219960" y="5715000"/>
            <a:ext cx="638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Near-Infrared stellar emission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E. L. Wright and COB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Picture 5" descr="C:\Documents and Settings\Tyler_Nordgren\My Documents\My Pictures\astro images\galaxies\ngc4565_mclaughlin.jpg"/>
          <p:cNvPicPr/>
          <p:nvPr/>
        </p:nvPicPr>
        <p:blipFill>
          <a:blip r:embed="rId2"/>
          <a:stretch/>
        </p:blipFill>
        <p:spPr>
          <a:xfrm>
            <a:off x="1219320" y="304920"/>
            <a:ext cx="6350040" cy="5367240"/>
          </a:xfrm>
          <a:prstGeom prst="rect">
            <a:avLst/>
          </a:prstGeom>
          <a:ln w="0">
            <a:noFill/>
          </a:ln>
        </p:spPr>
      </p:pic>
      <p:sp>
        <p:nvSpPr>
          <p:cNvPr id="141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Galactic Distances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4674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How do we know the distance to stars and clusters in our galaxy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rigonometric parallax good out to 100 pc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e believe galaxy is ~30 kpc wid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How do we know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44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Spectroscopic Parallax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If you know how luminous a star REALLY is and how bright it looks from Earth, you can determine how far away it must be to look that faint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18960" indent="-31896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or any star in the sky, we KNOW: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690840" indent="-26568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Apparent Magnitude (</a:t>
            </a:r>
            <a:r>
              <a:rPr b="0" lang="en-US" sz="2400" spc="-1" strike="noStrike">
                <a:solidFill>
                  <a:srgbClr val="00cc99"/>
                </a:solidFill>
                <a:latin typeface="Palatino"/>
              </a:rPr>
              <a:t>m</a:t>
            </a: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)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690840" indent="-26568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Spectral Type  (O, B, A, F, G, K, M)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690840" indent="-26568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Luminosity Class (Main Sequence, Giant, etc…). These are denoted by a roman numeral (V, III, I,…)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18960" indent="-31896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ombine spectral type and luminosity class to get absolute magnitude (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M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)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18960" indent="-31896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rom Lecture 7B: 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m – M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give you distanc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4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5" descr="C:\Documents and Settings\Tyler_Nordgren\My Documents\My Pictures\astro images\stars\H-Rdiagram.gif"/>
          <p:cNvPicPr/>
          <p:nvPr/>
        </p:nvPicPr>
        <p:blipFill>
          <a:blip r:embed="rId1"/>
          <a:stretch/>
        </p:blipFill>
        <p:spPr>
          <a:xfrm>
            <a:off x="228600" y="1828800"/>
            <a:ext cx="7162920" cy="457848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Example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724280" y="304560"/>
            <a:ext cx="419112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Deneb is A2Ia star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cc99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Palatino"/>
              </a:rPr>
              <a:t>m = 1.25</a:t>
            </a: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A2 </a:t>
            </a:r>
            <a:r>
              <a:rPr b="0" lang="en-US" sz="2400" spc="-1" strike="noStrike">
                <a:solidFill>
                  <a:srgbClr val="cccc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 Blue star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Ia </a:t>
            </a:r>
            <a:r>
              <a:rPr b="0" lang="en-US" sz="2400" spc="-1" strike="noStrike">
                <a:solidFill>
                  <a:srgbClr val="cccc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 Supergiant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cc99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Palatino"/>
              </a:rPr>
              <a:t>M = -8.8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4"/>
              <p:cNvSpPr txBox="1"/>
              <p:nvPr/>
            </p:nvSpPr>
            <p:spPr>
              <a:xfrm>
                <a:off x="5334120" y="3886200"/>
                <a:ext cx="356220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5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stance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pc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2" name="Text Box 6"/>
          <p:cNvSpPr/>
          <p:nvPr/>
        </p:nvSpPr>
        <p:spPr>
          <a:xfrm>
            <a:off x="1157760" y="5275440"/>
            <a:ext cx="2405880" cy="398880"/>
          </a:xfrm>
          <a:prstGeom prst="rect">
            <a:avLst/>
          </a:prstGeom>
          <a:solidFill>
            <a:srgbClr val="0000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Distance = 1000 p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53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Standard Candles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“</a:t>
            </a: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Standard Candles”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If we know how bright something </a:t>
            </a: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should be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, and we know how bright it </a:t>
            </a: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looks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</a:t>
            </a:r>
            <a:r>
              <a:rPr b="0" lang="en-US" sz="2800" spc="-1" strike="noStrike">
                <a:solidFill>
                  <a:srgbClr val="cccc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</a:t>
            </a:r>
            <a:r>
              <a:rPr b="1" lang="en-US" sz="2800" spc="-1" strike="noStrike">
                <a:solidFill>
                  <a:srgbClr val="ccccff"/>
                </a:solidFill>
                <a:latin typeface="Palatino"/>
              </a:rPr>
              <a:t>Distance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Variable star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RR Lyra star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Cepheid variable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56" name="Picture 4" descr="D:\CHAISSON\BG314\IMAGES\AAAKLBA0a.jpg"/>
          <p:cNvPicPr/>
          <p:nvPr/>
        </p:nvPicPr>
        <p:blipFill>
          <a:blip r:embed="rId1"/>
          <a:srcRect l="2743" t="11997" r="4489" b="11203"/>
          <a:stretch/>
        </p:blipFill>
        <p:spPr>
          <a:xfrm>
            <a:off x="3962520" y="3124080"/>
            <a:ext cx="4724280" cy="24386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pic>
        <p:nvPicPr>
          <p:cNvPr id="157" name="Picture 5" descr="D:\CHAISSON\BG314\IMAGES\AAAKLBA0b.jpg"/>
          <p:cNvPicPr/>
          <p:nvPr/>
        </p:nvPicPr>
        <p:blipFill>
          <a:blip r:embed="rId2"/>
          <a:srcRect l="1499" t="11997" r="4241" b="11203"/>
          <a:stretch/>
        </p:blipFill>
        <p:spPr>
          <a:xfrm>
            <a:off x="3962520" y="3124080"/>
            <a:ext cx="4724280" cy="24386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58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Variable Stars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3886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or RR Lyrae stars: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698400" indent="-2685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Average luminosity is a standard candle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698400" indent="-2685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Always ~ 100 x Sun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2200" indent="-3222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or Cepheid variables: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698400" indent="-2685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Pulsation period is proportional to average luminosity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698400" indent="-2685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Observe the period </a:t>
            </a:r>
            <a:r>
              <a:rPr b="0" lang="en-US" sz="2400" spc="-1" strike="noStrike">
                <a:solidFill>
                  <a:srgbClr val="cccc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 find the luminosity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2200" indent="-3222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Good to 15 Mpc!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61" name="Picture 4" descr="D:\CHAISSON\BG314\IMAGES\AAAKLBE0.jpg"/>
          <p:cNvPicPr/>
          <p:nvPr/>
        </p:nvPicPr>
        <p:blipFill>
          <a:blip r:embed="rId1"/>
          <a:stretch/>
        </p:blipFill>
        <p:spPr>
          <a:xfrm>
            <a:off x="4343400" y="1981080"/>
            <a:ext cx="4610160" cy="3022560"/>
          </a:xfrm>
          <a:prstGeom prst="rect">
            <a:avLst/>
          </a:prstGeom>
          <a:ln w="0">
            <a:noFill/>
          </a:ln>
        </p:spPr>
      </p:pic>
      <p:sp>
        <p:nvSpPr>
          <p:cNvPr id="16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C:\Documents and Settings\Tyler_Nordgren\My Documents\My Pictures\astro images\images\MandM_Magrath.jpg"/>
          <p:cNvPicPr/>
          <p:nvPr/>
        </p:nvPicPr>
        <p:blipFill>
          <a:blip r:embed="rId1"/>
          <a:stretch/>
        </p:blipFill>
        <p:spPr>
          <a:xfrm>
            <a:off x="380880" y="533520"/>
            <a:ext cx="8534520" cy="558612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9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D:\CHAISSON\BG314\IMAGES\AAAKLBH0.jpg"/>
          <p:cNvPicPr/>
          <p:nvPr/>
        </p:nvPicPr>
        <p:blipFill>
          <a:blip r:embed="rId1"/>
          <a:srcRect l="1062" t="2815" r="3193" b="5524"/>
          <a:stretch/>
        </p:blipFill>
        <p:spPr>
          <a:xfrm>
            <a:off x="609480" y="533520"/>
            <a:ext cx="8001000" cy="577836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64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Rotation …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3276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Objects in the disk, rotate in the disk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05600" indent="-2714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Nebulae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05600" indent="-2714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Open cluster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05600" indent="-2714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Young star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5800" indent="-3258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Objects in the halo, swarm in a halo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05600" indent="-2714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Old star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05600" indent="-2714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Globular cluster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67" name="Picture 4" descr="D:\CHAISSON\BG314\IMAGES\AAAKLBK0.jpg"/>
          <p:cNvPicPr/>
          <p:nvPr/>
        </p:nvPicPr>
        <p:blipFill>
          <a:blip r:embed="rId1"/>
          <a:stretch/>
        </p:blipFill>
        <p:spPr>
          <a:xfrm>
            <a:off x="4267080" y="1600200"/>
            <a:ext cx="4152960" cy="4165560"/>
          </a:xfrm>
          <a:prstGeom prst="rect">
            <a:avLst/>
          </a:prstGeom>
          <a:ln w="0">
            <a:noFill/>
          </a:ln>
        </p:spPr>
      </p:pic>
      <p:sp>
        <p:nvSpPr>
          <p:cNvPr id="16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… </a:t>
            </a: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and Formation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39625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Picture the formation of the Sun: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20720" indent="-27720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Spherical cloud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20720" indent="-27720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Condenses to disk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20720" indent="-27720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Planets in a plane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20720" indent="-27720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Oort cloud sphere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32640" indent="-33264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Perhaps the same with the galaxy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71" name="Picture 4" descr="D:\CHAISSON\BG314\IMAGES\AAAKLBL0.jpg"/>
          <p:cNvPicPr/>
          <p:nvPr/>
        </p:nvPicPr>
        <p:blipFill>
          <a:blip r:embed="rId1"/>
          <a:stretch/>
        </p:blipFill>
        <p:spPr>
          <a:xfrm>
            <a:off x="4572000" y="1371600"/>
            <a:ext cx="4305240" cy="4191120"/>
          </a:xfrm>
          <a:prstGeom prst="rect">
            <a:avLst/>
          </a:prstGeom>
          <a:ln w="0">
            <a:noFill/>
          </a:ln>
        </p:spPr>
      </p:pic>
      <p:sp>
        <p:nvSpPr>
          <p:cNvPr id="17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Missing Mass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rom variable stars we know distance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rom Doppler shift we know rotation velocity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Use Kepler’s Third Law (again) to get mass of the Milky Way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Palatino"/>
              </a:rPr>
              <a:t>M = 10</a:t>
            </a:r>
            <a:r>
              <a:rPr b="1" lang="en-US" sz="2800" spc="-1" strike="noStrike" baseline="30000">
                <a:solidFill>
                  <a:srgbClr val="00cc99"/>
                </a:solidFill>
                <a:latin typeface="Palatino"/>
              </a:rPr>
              <a:t>11</a:t>
            </a:r>
            <a:r>
              <a:rPr b="1" lang="en-US" sz="2800" spc="-1" strike="noStrike">
                <a:solidFill>
                  <a:srgbClr val="00cc99"/>
                </a:solidFill>
                <a:latin typeface="Palatino"/>
              </a:rPr>
              <a:t> x M</a:t>
            </a:r>
            <a:r>
              <a:rPr b="1" lang="en-US" sz="2800" spc="-1" strike="noStrike" baseline="-25000">
                <a:solidFill>
                  <a:srgbClr val="00cc99"/>
                </a:solidFill>
                <a:latin typeface="Palatino"/>
              </a:rPr>
              <a:t>sun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grpSp>
        <p:nvGrpSpPr>
          <p:cNvPr id="175" name="Group 4"/>
          <p:cNvGrpSpPr/>
          <p:nvPr/>
        </p:nvGrpSpPr>
        <p:grpSpPr>
          <a:xfrm>
            <a:off x="2362320" y="3809880"/>
            <a:ext cx="2971800" cy="2471760"/>
            <a:chOff x="2362320" y="3809880"/>
            <a:chExt cx="2971800" cy="2471760"/>
          </a:xfrm>
        </p:grpSpPr>
        <mc:AlternateContent>
          <mc:Choice xmlns:a14="http://schemas.microsoft.com/office/drawing/2010/main" Requires="a14">
            <p:sp>
              <p:nvSpPr>
                <p:cNvPr id="176" name="Object 5"/>
                <p:cNvSpPr txBox="1"/>
                <p:nvPr/>
              </p:nvSpPr>
              <p:spPr>
                <a:xfrm>
                  <a:off x="2362320" y="3809880"/>
                  <a:ext cx="1936800" cy="75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P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∝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7" name="Object 6"/>
                <p:cNvSpPr txBox="1"/>
                <p:nvPr/>
              </p:nvSpPr>
              <p:spPr>
                <a:xfrm>
                  <a:off x="2362320" y="4724280"/>
                  <a:ext cx="2971800" cy="155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P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f>
                        <m:num>
                          <m:r>
                            <m:t xml:space="preserve">4</m:t>
                          </m:r>
                          <m:sSup>
                            <m:e>
                              <m:r>
                                <m:t xml:space="preserve">π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GM</m:t>
                          </m:r>
                        </m:den>
                      </m:f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78" name="Picture 7" descr="D:\CHAISSON\BG314\IMAGES\AAAKLBS0.jpg"/>
          <p:cNvPicPr/>
          <p:nvPr/>
        </p:nvPicPr>
        <p:blipFill>
          <a:blip r:embed="rId1"/>
          <a:stretch/>
        </p:blipFill>
        <p:spPr>
          <a:xfrm>
            <a:off x="1600200" y="3743280"/>
            <a:ext cx="6019920" cy="3114720"/>
          </a:xfrm>
          <a:prstGeom prst="rect">
            <a:avLst/>
          </a:prstGeom>
          <a:ln w="0">
            <a:noFill/>
          </a:ln>
        </p:spPr>
      </p:pic>
      <p:sp>
        <p:nvSpPr>
          <p:cNvPr id="179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Dark Matter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hat causes the mass to keep on increasing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Don’t see anything there. Thus </a:t>
            </a:r>
            <a:r>
              <a:rPr b="0" lang="en-US" sz="2800" spc="-1" strike="noStrike">
                <a:solidFill>
                  <a:srgbClr val="cccc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“dark” matter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Brown dwarf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Planet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White dwarf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Strange matter?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Use gravitational lensing (last lecture) to look for these “dark” object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8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D:\CHAISSON\BG314\IMAGES\AAAKLBU0.jpg"/>
          <p:cNvPicPr/>
          <p:nvPr/>
        </p:nvPicPr>
        <p:blipFill>
          <a:blip r:embed="rId1"/>
          <a:stretch/>
        </p:blipFill>
        <p:spPr>
          <a:xfrm>
            <a:off x="2057400" y="1143000"/>
            <a:ext cx="5105520" cy="5003640"/>
          </a:xfrm>
          <a:prstGeom prst="rect">
            <a:avLst/>
          </a:prstGeom>
          <a:ln w="0">
            <a:noFill/>
          </a:ln>
        </p:spPr>
      </p:pic>
      <p:sp>
        <p:nvSpPr>
          <p:cNvPr id="184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The Heart of the Galaxy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3276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Because of all the dust in the Galaxy, we can’t see its center in visible light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an use IR and radio to pierce the dust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87" name="Picture 4" descr="D:\CHAISSON\BG314\IMAGES\AAAKLBW0.jpg"/>
          <p:cNvPicPr/>
          <p:nvPr/>
        </p:nvPicPr>
        <p:blipFill>
          <a:blip r:embed="rId1"/>
          <a:stretch/>
        </p:blipFill>
        <p:spPr>
          <a:xfrm>
            <a:off x="3962520" y="1676520"/>
            <a:ext cx="5029200" cy="39146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8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D:\CHAISSON\BG314\IMAGES\AAAKLBW0.jpg"/>
          <p:cNvPicPr/>
          <p:nvPr/>
        </p:nvPicPr>
        <p:blipFill>
          <a:blip r:embed="rId1"/>
          <a:stretch/>
        </p:blipFill>
        <p:spPr>
          <a:xfrm>
            <a:off x="304920" y="152280"/>
            <a:ext cx="8534160" cy="66438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90" name="Line 3"/>
          <p:cNvSpPr/>
          <p:nvPr/>
        </p:nvSpPr>
        <p:spPr>
          <a:xfrm>
            <a:off x="3733920" y="457200"/>
            <a:ext cx="266688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4437360" y="474840"/>
            <a:ext cx="9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Palatino"/>
              </a:rPr>
              <a:t>200 p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2" name="Line 5"/>
          <p:cNvSpPr/>
          <p:nvPr/>
        </p:nvSpPr>
        <p:spPr>
          <a:xfrm>
            <a:off x="7772400" y="3276720"/>
            <a:ext cx="53352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7668360" y="2743200"/>
            <a:ext cx="6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Palatino"/>
              </a:rPr>
              <a:t>5 p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6121440" y="5562720"/>
            <a:ext cx="28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agittarius A* - Sgr A*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5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Stellar Motion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4191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Infrared images of stars in the Galactic Center over 8 years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9040" indent="-32904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The “</a:t>
            </a:r>
            <a:r>
              <a:rPr b="0" lang="en-US" sz="2400" spc="-1" strike="noStrike">
                <a:solidFill>
                  <a:srgbClr val="ffff00"/>
                </a:solidFill>
                <a:latin typeface="Palatino"/>
              </a:rPr>
              <a:t>+</a:t>
            </a: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” is the radio source Sgr A*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9040" indent="-32904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Conclusion: Must be over one million solar masses within less than 1/5 of a light year!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9040" indent="-329040">
              <a:spcBef>
                <a:spcPts val="601"/>
              </a:spcBef>
              <a:buClr>
                <a:srgbClr val="ffff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Palatino"/>
              </a:rPr>
              <a:t>Supermassive Black Hole!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9040" indent="-32904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Event Horizon &lt; 0.05 AU!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9040" indent="-32904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Probably in the centers of all spiral galaxies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98" name="Picture 4" descr="C:\Documents and Settings\Tyler_Nordgren\My Documents\Astronomy classes\Fall 2001\movies\SgrA_sharp_big.gif"/>
          <p:cNvPicPr/>
          <p:nvPr/>
        </p:nvPicPr>
        <p:blipFill>
          <a:blip r:embed="rId1"/>
          <a:stretch/>
        </p:blipFill>
        <p:spPr>
          <a:xfrm>
            <a:off x="4648320" y="1219320"/>
            <a:ext cx="4495680" cy="449568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5"/>
          <p:cNvSpPr/>
          <p:nvPr/>
        </p:nvSpPr>
        <p:spPr>
          <a:xfrm>
            <a:off x="4516920" y="5829480"/>
            <a:ext cx="209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Copyright Eckart &amp; Genzel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00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Goals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tructure of our Galaxy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Its size and shap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How do stars and things move through it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Mass and Dark Matter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e Galactic Center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0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C:\Documents and Settings\Tyler_Nordgren\My Documents\My Pictures\astro images\stars\mw7b_gleason.jpg"/>
          <p:cNvPicPr/>
          <p:nvPr/>
        </p:nvPicPr>
        <p:blipFill>
          <a:blip r:embed="rId1"/>
          <a:stretch/>
        </p:blipFill>
        <p:spPr>
          <a:xfrm>
            <a:off x="380880" y="228600"/>
            <a:ext cx="8382240" cy="559260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The Milky Way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tars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Dust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Gaseous Nebulae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Open Clusters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Globular Clusters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Pulsars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Black Holes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How do they all fit together to make our galaxy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0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6" descr="C:\Documents and Settings\Tyler_Nordgren\My Documents\My Pictures\astro images\images\allsky_mellinger_c2.jpg"/>
          <p:cNvPicPr/>
          <p:nvPr/>
        </p:nvPicPr>
        <p:blipFill>
          <a:blip r:embed="rId1"/>
          <a:stretch/>
        </p:blipFill>
        <p:spPr>
          <a:xfrm>
            <a:off x="76320" y="838080"/>
            <a:ext cx="8915400" cy="495324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06" name="Text Box 4"/>
          <p:cNvSpPr/>
          <p:nvPr/>
        </p:nvSpPr>
        <p:spPr>
          <a:xfrm>
            <a:off x="152280" y="594360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Optical emission from stars and nebula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C:\Documents and Settings\Tyler_Nordgren\My Documents\My Pictures\astro images\images\nir_cobe.jpg"/>
          <p:cNvPicPr/>
          <p:nvPr/>
        </p:nvPicPr>
        <p:blipFill>
          <a:blip r:embed="rId1"/>
          <a:stretch/>
        </p:blipFill>
        <p:spPr>
          <a:xfrm>
            <a:off x="76320" y="990720"/>
            <a:ext cx="8915400" cy="461484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09" name="Text Box 3"/>
          <p:cNvSpPr/>
          <p:nvPr/>
        </p:nvSpPr>
        <p:spPr>
          <a:xfrm>
            <a:off x="-219960" y="5715000"/>
            <a:ext cx="638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Near-Infrared stellar emission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E. L. Wright and COB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C:\Documents and Settings\Tyler_Nordgren\My Documents\My Pictures\astro images\images\fir_cobe.jpg"/>
          <p:cNvPicPr/>
          <p:nvPr/>
        </p:nvPicPr>
        <p:blipFill>
          <a:blip r:embed="rId1"/>
          <a:stretch/>
        </p:blipFill>
        <p:spPr>
          <a:xfrm>
            <a:off x="76320" y="990720"/>
            <a:ext cx="8915400" cy="463680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12" name="Text Box 3"/>
          <p:cNvSpPr/>
          <p:nvPr/>
        </p:nvSpPr>
        <p:spPr>
          <a:xfrm>
            <a:off x="-186480" y="5715000"/>
            <a:ext cx="596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Far-Infrared dust emission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E. L. Wright and COB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C:\Documents and Settings\Tyler_Nordgren\My Documents\My Pictures\astro images\images\fir_cobe.jpg"/>
          <p:cNvPicPr/>
          <p:nvPr/>
        </p:nvPicPr>
        <p:blipFill>
          <a:blip r:embed="rId1"/>
          <a:stretch/>
        </p:blipFill>
        <p:spPr>
          <a:xfrm>
            <a:off x="76320" y="990720"/>
            <a:ext cx="8915400" cy="463680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pic>
        <p:nvPicPr>
          <p:cNvPr id="115" name="Picture 2" descr="C:\Documents and Settings\Tyler_Nordgren\My Documents\My Pictures\astro images\images\nHI_alt_skyview_big.jpg"/>
          <p:cNvPicPr/>
          <p:nvPr/>
        </p:nvPicPr>
        <p:blipFill>
          <a:blip r:embed="rId2"/>
          <a:srcRect l="4272" t="9305" r="4272" b="9099"/>
          <a:stretch/>
        </p:blipFill>
        <p:spPr>
          <a:xfrm>
            <a:off x="76320" y="990720"/>
            <a:ext cx="8915400" cy="464796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16" name="Text Box 4"/>
          <p:cNvSpPr/>
          <p:nvPr/>
        </p:nvSpPr>
        <p:spPr>
          <a:xfrm>
            <a:off x="-186480" y="5732640"/>
            <a:ext cx="642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Radio emission from neutral hydrogen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J. Dicke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C:\Documents and Settings\Tyler_Nordgren\My Documents\My Pictures\astro images\images\xallsky_rosat110.jpg"/>
          <p:cNvPicPr/>
          <p:nvPr/>
        </p:nvPicPr>
        <p:blipFill>
          <a:blip r:embed="rId1"/>
          <a:stretch/>
        </p:blipFill>
        <p:spPr>
          <a:xfrm>
            <a:off x="152280" y="990720"/>
            <a:ext cx="8839440" cy="463536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19" name="Text Box 4"/>
          <p:cNvSpPr/>
          <p:nvPr/>
        </p:nvSpPr>
        <p:spPr>
          <a:xfrm>
            <a:off x="-59040" y="5732640"/>
            <a:ext cx="58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X-ray emission from hot gas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S. Digel and ROSAT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4T18:19:29Z</dcterms:created>
  <dc:creator>Julie A. Rathbun</dc:creator>
  <dc:description/>
  <dc:language>en-US</dc:language>
  <cp:lastModifiedBy>LEGION</cp:lastModifiedBy>
  <dcterms:modified xsi:type="dcterms:W3CDTF">2018-03-22T10:45:45Z</dcterms:modified>
  <cp:revision>100</cp:revision>
  <dc:subject/>
  <dc:title>PowerPoint Presentation</dc:title>
</cp:coreProperties>
</file>